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290-5885-4F2F-9246-76F5DA05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2A9-8466-4E19-A1A2-6D49991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AEB-B561-4A7D-BD34-E911DFFB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BF5-58DC-4B01-BF73-78D8E301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70C-B2DD-4F6E-83ED-D210D575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D43-1B89-42EE-ABF5-744C19D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BDE-A498-4F37-8E1A-9D42CCF5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821-4AB0-4358-B71F-139A1C52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280-DC77-4D99-A266-5E51E452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08D-D7F7-4E10-800E-0B5DAE5F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1D9-8D39-4BB4-A202-E901206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850-AC13-4520-9A25-FFD97CE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23634-C6C2-4D3E-BDA5-5C422C705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oice of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verbal/auditory qualities of a lead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ok of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visual qualities of a lea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cts of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actions of a lea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deas of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thoughts/ideas of leader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29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bate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ere such a thing as a born lea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people be made into lead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say about elections and/or elected offic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anyone be a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0:56:49Z</dcterms:created>
  <dc:creator>Nick Chanese</dc:creator>
  <dc:description/>
  <dc:language>en-US</dc:language>
  <cp:lastModifiedBy/>
  <cp:revision>1</cp:revision>
  <dc:subject/>
  <dc:title/>
</cp:coreProperties>
</file>